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9B5-EF5C-430E-9F25-E9A0D80A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697-9713-4B2B-9C5B-52CDAE9E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783-0A1F-4262-B710-28FA99FF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970-9507-4847-8C0A-543FF330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73FC3-79F4-4ED8-867B-576845EB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923ED-1236-4FC2-A00C-AC9122B0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3312A-D6F2-4F27-9882-5585ADB7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F0309-7F38-4A89-A2C4-21044413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9795A-9AA3-4E6E-A369-26BD4003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C1233-F053-4DC7-885E-5234BC5B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7BED6-EA3A-45CD-BEA5-A1AA4D23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B3D3-0497-4B06-82F1-7F3C819D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C892F-0DA9-44AF-A060-DD7F9F8A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FF175-1403-44E8-91F6-217CF27E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96BEC-10E1-4C39-95E9-9DFDB9ED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7AE57-14A4-486B-BA80-BA74B2B8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73223-010A-4520-92BB-97F773AE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9B0-9521-44AC-B4D8-A2621937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4F5-3ED5-4E8A-9544-E4DEF87B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957-862A-4F72-BA3B-8DD594FC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66A-AACA-4A63-9D16-670D9063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8DA-837D-47AD-998A-DA6B3D0E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646-19D8-45CB-9C67-5463CAA7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BAD-5F59-41F9-94C3-6BE23C87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2CA67A-64CF-4C46-AB3C-92414ECDAC2F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F379005-E82A-420A-9FFD-BBA750DB2FF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РАЗЕОЛОГИЗ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ить за нос -…………………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дуть губы - ………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ть баклуши - ……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кусить язык - …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рубить на носу - 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евать носом -……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еиваться как дым -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вать стрекача -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75520" y="1844640"/>
            <a:ext cx="286848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155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305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455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61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765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92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dur="indefinite" fill="hold">
                            <p:stCondLst>
                              <p:cond delay="1085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РЕДЕЛИ ВИД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820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исовать              смотре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опить                    люби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рудиться                 надува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ветить                     построи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ить                          писать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ушить                   издав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меяться                    слом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16360" y="1341360"/>
            <a:ext cx="3143160" cy="518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0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235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dur="indefinite" fill="hold">
                            <p:stCondLst>
                              <p:cond delay="3450"/>
                            </p:stCondLst>
                            <p:childTnLst>
                              <p:par>
                                <p:cTn id="7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4750"/>
                            </p:stCondLst>
                            <p:childTnLst>
                              <p:par>
                                <p:cTn id="8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4963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гол – самая огнепышущая, самая живая часть речи. В глаголе струится самая алая, самая свежая, артериальная кровь языка. Да ведь и назначение глагола – выражать само действие!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.Югов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0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694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694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694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4032000" cy="5472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ашнее зад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Придумать небольшую сказку о стране Глаголии и её жителях, используя глаголы и определяя их ви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о картинкам на странице 112 (упр.644) придумать предложения и определить вид глаго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0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9756720" cy="704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6:20:59Z</dcterms:created>
  <dc:creator>olga</dc:creator>
  <dc:description/>
  <dc:language>en-US</dc:language>
  <cp:lastModifiedBy>1</cp:lastModifiedBy>
  <dcterms:modified xsi:type="dcterms:W3CDTF">2009-04-28T15:56:26Z</dcterms:modified>
  <cp:revision>3</cp:revision>
  <dc:subject/>
  <dc:title>ФРАЗЕОЛОГИЗМЫ</dc:title>
</cp:coreProperties>
</file>