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116-3EA8-48BC-9FC1-896B7BF6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C30-C762-4E5A-B841-6F28128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286-4A30-47F5-99E9-845DC750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CF8-607F-416F-A7A4-8EE2C6EC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4F7C3-16C2-4D1D-9621-D42408C3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03A46-2CD7-4C3B-A491-D9D9383D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52A7-6733-465D-B9D8-0EFC47E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81DF2-BBFD-49AB-B1F1-0154D3C9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B358A-8930-4809-8EAB-8B5363B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0EF44-9559-4ED0-8D80-FB86855A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E433-ED3C-4F86-9001-00B10AA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144-5E23-4138-86D6-6E6D724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27002-5EE9-4D20-8098-09B0667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3584A-77C0-4DA0-8B42-F98AE7C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B4FD-EBD7-4804-BB6C-A1FD4131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22904-543B-4021-ACEA-31B784AE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04BB4-3D7B-498A-897F-65CA60A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447-7E72-42BB-BDAE-08806E4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FED-BA85-45BC-AFFD-E091F64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953-1922-441C-A5BA-FB06AC8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1A4-9DBE-495D-804D-2358EFF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3DD-AF3F-4899-ACF1-ACD4871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B98-ABA2-4437-BB3D-87BCECD2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846-B54A-4812-8F62-DE9B087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6CF5-D881-4354-850B-6000870937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6F1-E391-4C8B-9145-4AB922372C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90;&#1077;&#1089;&#1090;%20&#1082;%20&#1090;&#1077;&#1084;&#1077;.ppt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4000" y="234900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мер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шё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400800" cy="107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бери лишне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Рисунок1ае"/>
          <p:cNvPicPr/>
          <p:nvPr/>
        </p:nvPicPr>
        <p:blipFill>
          <a:blip r:embed="rId1"/>
          <a:stretch/>
        </p:blipFill>
        <p:spPr>
          <a:xfrm>
            <a:off x="4427640" y="2708280"/>
            <a:ext cx="441324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1619280" y="2205000"/>
            <a:ext cx="6048360" cy="446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Тема урока: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ВИДЫ ГЛАГОЛ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ПРОС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РО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0d7bfbb42edcbbc148491e5164e3ef67"/>
          <p:cNvPicPr/>
          <p:nvPr/>
        </p:nvPicPr>
        <p:blipFill>
          <a:blip r:embed="rId1"/>
          <a:stretch/>
        </p:blipFill>
        <p:spPr>
          <a:xfrm>
            <a:off x="5148360" y="1989000"/>
            <a:ext cx="3778200" cy="424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26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.Скольк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ов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Как различ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ы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ОВЕРШЕННЫЙ ВИД    СОВЕРШЕННЫЙ ВИ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делать?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с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решать)                          (решит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0d7bfbb42edcbbc148491e5164e3ef67"/>
          <p:cNvPicPr/>
          <p:nvPr/>
        </p:nvPicPr>
        <p:blipFill>
          <a:blip r:embed="rId2"/>
          <a:stretch/>
        </p:blipFill>
        <p:spPr>
          <a:xfrm>
            <a:off x="179280" y="429264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40a73b396965654d5e45d53b47d4e2b"/>
          <p:cNvPicPr/>
          <p:nvPr/>
        </p:nvPicPr>
        <p:blipFill>
          <a:blip r:embed="rId3"/>
          <a:stretch/>
        </p:blipFill>
        <p:spPr>
          <a:xfrm>
            <a:off x="4859280" y="4292640"/>
            <a:ext cx="380988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79280" y="1773360"/>
          <a:ext cx="8929800" cy="20872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1773360"/>
          <a:ext cx="9072720" cy="2089080"/>
        </p:xfrm>
        <a:graphic>
          <a:graphicData uri="http://schemas.openxmlformats.org/drawingml/2006/table">
            <a:tbl>
              <a:tblPr/>
              <a:tblGrid>
                <a:gridCol w="4716360"/>
                <a:gridCol w="435636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6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тренируемс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604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7:30:35Z</dcterms:created>
  <dc:creator>1</dc:creator>
  <dc:description/>
  <dc:language>en-US</dc:language>
  <cp:lastModifiedBy>1</cp:lastModifiedBy>
  <dcterms:modified xsi:type="dcterms:W3CDTF">2009-04-15T20:08:46Z</dcterms:modified>
  <cp:revision>60</cp:revision>
  <dc:subject/>
  <dc:title>Слайд 1</dc:title>
</cp:coreProperties>
</file>